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6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20.png" ContentType="image/png"/>
  <Override PartName="/ppt/media/image19.jpeg" ContentType="image/jpeg"/>
  <Override PartName="/ppt/media/image17.gif" ContentType="image/gif"/>
  <Override PartName="/ppt/media/image2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6DBC9-8336-446F-93E9-1956CA4D5E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99D7-5260-4E98-B94C-3CA62458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889E-02CD-40E2-9D2F-F8E303B0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B29B-1696-48CD-8739-E28AD3E888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956C-0375-47F2-BABC-89B1FF9B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40DB-2882-4195-A1A6-3E344762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A7B73-28BC-4D93-9BF4-8DC08517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5BE0-E8AD-4F10-BDD3-5318DE60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47E4-6B3E-4414-9313-50B2EC3B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A2D08-6FC7-4EFE-BC9E-B2B962DD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6017-DAE4-4CB1-B80F-7305602A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67FE-C560-4A6C-B668-0F63CC7A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1668-9B6A-45C4-879C-967C4AAC35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3.png"/><Relationship Id="rId12" Type="http://schemas.openxmlformats.org/officeDocument/2006/relationships/image" Target="../media/image22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3.png"/><Relationship Id="rId16" Type="http://schemas.openxmlformats.org/officeDocument/2006/relationships/image" Target="../media/image22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3.png"/><Relationship Id="rId24" Type="http://schemas.openxmlformats.org/officeDocument/2006/relationships/image" Target="../media/image22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3.png"/><Relationship Id="rId28" Type="http://schemas.openxmlformats.org/officeDocument/2006/relationships/image" Target="../media/image22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细胞的基本功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黑体"/>
              </a:rPr>
              <a:t>骨骼肌的收缩活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1989000"/>
            <a:ext cx="828216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影响传递的因素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 </a:t>
            </a:r>
            <a:br>
              <a:rPr sz="3600"/>
            </a:br>
            <a:br>
              <a:rPr sz="2800"/>
            </a:b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肌无力综合征：自身抗体破坏神经末梢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28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通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肉毒杆菌中毒：毒素抑制接头前膜 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773360"/>
            <a:ext cx="8424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钙 离 子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促使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筒 箭 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α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银环蛇毒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有机磷农药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对胆碱酯酶有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重症肌无力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自身抗体破坏了终板膜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 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2637000"/>
            <a:ext cx="46400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可特异性阻断终板膜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2637000"/>
            <a:ext cx="75960" cy="990360"/>
          </a:xfrm>
          <a:custGeom>
            <a:avLst/>
            <a:gdLst>
              <a:gd name="textAreaLeft" fmla="*/ 0 w 75960"/>
              <a:gd name="textAreaRight" fmla="*/ 27360 w 759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9966"/>
          </a:solidFill>
          <a:ln w="57240">
            <a:solidFill>
              <a:srgbClr val="ff6600"/>
            </a:solidFill>
            <a:miter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268280"/>
            <a:ext cx="8497800" cy="40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二、骨骼肌细胞的兴奋</a:t>
            </a:r>
            <a:r>
              <a:rPr b="1" lang="en-US" sz="38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收缩耦联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收缩耦联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(Excitation-contraction coupling)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概念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横纹肌细胞产生动作电位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电兴奋过程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和肌丝滑行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机械收缩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联系起来的中介机制或过程。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052640"/>
            <a:ext cx="7848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肌管系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0241"/>
          <a:stretch/>
        </p:blipFill>
        <p:spPr>
          <a:xfrm>
            <a:off x="1547640" y="1989000"/>
            <a:ext cx="609624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692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收缩耦联的基本步骤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①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管膜动作电位的传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动作电位沿肌膜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管膜传播，同时激活膜上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②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内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通过变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或内流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心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钙释放通道，引起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入胞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8720" y="685800"/>
            <a:ext cx="690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692280"/>
            <a:ext cx="8209080" cy="48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③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触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胞质中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促使肌钙蛋白与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结合引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④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回收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激活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SR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膜上的钙泵，将胞质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回收肌质网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降低，肌肉舒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066680"/>
            <a:ext cx="814716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兴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收缩耦联过程中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关键耦联部位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联管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起关键作用的耦联物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如果肌质中缺少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发生兴奋收缩脱耦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620640"/>
            <a:ext cx="82072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骨骼肌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原纤维和肌小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呈明－暗相间的节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暗带：长度固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明带：长度可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31417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00"/>
          </a:solidFill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581360"/>
            <a:ext cx="8352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小节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上位于两条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线之间的区域，是肌肉收缩和舒张的基本单位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一、骨骼肌的兴奋</a:t>
            </a: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052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接头处的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12604" r="0" b="13370"/>
          <a:stretch/>
        </p:blipFill>
        <p:spPr>
          <a:xfrm>
            <a:off x="3708360" y="3460680"/>
            <a:ext cx="5159520" cy="286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98900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前膜（神经轴突的细胞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间隙（内充满细胞外液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后膜（终板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03280" y="5013360"/>
            <a:ext cx="70214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暗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粗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明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1484280"/>
            <a:ext cx="85694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骨骼肌的收缩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肌丝滑行理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myofilament sliding theory):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1954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年由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Huxley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提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内容：</a:t>
            </a: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肌肉的缩短和伸长均通过粗、细肌丝在肌节内的相互滑行而发生，粗、细肌丝本身的长度不变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1052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主要过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844640"/>
            <a:ext cx="79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扭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分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复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4437000"/>
            <a:ext cx="8280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横桥循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ross bridge cycling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球蛋白的横桥与肌动蛋白结合、扭动、复位的过程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19280" y="5805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过程（肌丝滑行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562360" cy="417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17988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95280" y="847800"/>
            <a:ext cx="8294760" cy="5665680"/>
            <a:chOff x="395280" y="847800"/>
            <a:chExt cx="8294760" cy="5665680"/>
          </a:xfrm>
        </p:grpSpPr>
        <p:sp>
          <p:nvSpPr>
            <p:cNvPr id="169" name=""/>
            <p:cNvSpPr/>
            <p:nvPr/>
          </p:nvSpPr>
          <p:spPr>
            <a:xfrm>
              <a:off x="395280" y="847800"/>
              <a:ext cx="82947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正常肌肉舒缩的分子基础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节  粗肌丝：肌球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细肌丝：肌动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原肌凝蛋白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钙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钙离子：耦联因子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T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：肌丝滑动的能源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00600" y="2981520"/>
              <a:ext cx="69840" cy="165708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68760 h 1657080"/>
                <a:gd name="textAreaBottom" fmla="*/ 158832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10280" y="2143080"/>
              <a:ext cx="74520" cy="10810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5000 h 1081080"/>
                <a:gd name="textAreaBottom" fmla="*/ 1036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15200" y="3743280"/>
              <a:ext cx="74520" cy="100980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1760 h 1009800"/>
                <a:gd name="textAreaBottom" fmla="*/ 9680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200" y="2067120"/>
              <a:ext cx="128520" cy="3921120"/>
            </a:xfrm>
            <a:custGeom>
              <a:avLst/>
              <a:gdLst>
                <a:gd name="textAreaLeft" fmla="*/ 82080 w 128520"/>
                <a:gd name="textAreaRight" fmla="*/ 128880 w 128520"/>
                <a:gd name="textAreaTop" fmla="*/ 102240 h 3921120"/>
                <a:gd name="textAreaBottom" fmla="*/ 3818880 h 392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1800" y="2067120"/>
              <a:ext cx="131760" cy="1079280"/>
            </a:xfrm>
            <a:custGeom>
              <a:avLst/>
              <a:gdLst>
                <a:gd name="textAreaLeft" fmla="*/ 84240 w 131760"/>
                <a:gd name="textAreaRight" fmla="*/ 132120 w 13176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5520" y="2359080"/>
              <a:ext cx="22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收缩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30840" y="3908520"/>
              <a:ext cx="20574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调节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320840"/>
            <a:ext cx="8425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收缩的表现形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表现为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收缩时产生的张力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force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缩短程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shortening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产生张力或缩短的速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velocity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55284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1144440"/>
            <a:ext cx="79930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的外部表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长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metric contraction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张力的增加而无肌肉长度的缩短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张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tonic contraction 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肉长度缩短而无肌张力的变化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557360"/>
            <a:ext cx="842472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单收缩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single twich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受到一次刺激，产生一次动作电位，随后出现一次机械收缩和跟随的舒张。</a:t>
            </a:r>
            <a:r>
              <a:rPr b="1" lang="zh-CN" sz="3800" spc="-1" strike="noStrike">
                <a:solidFill>
                  <a:srgbClr val="ddb523"/>
                </a:solidFill>
                <a:latin typeface="黑体"/>
                <a:ea typeface="黑体"/>
              </a:rPr>
              <a:t>分为三个时期：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潜伏期：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收缩期：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一定范围刺激强度与收缩强度有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舒张期：略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95280" y="981000"/>
            <a:ext cx="8281800" cy="4603320"/>
            <a:chOff x="395280" y="981000"/>
            <a:chExt cx="8281800" cy="4603320"/>
          </a:xfrm>
        </p:grpSpPr>
        <p:sp>
          <p:nvSpPr>
            <p:cNvPr id="112" name=""/>
            <p:cNvSpPr/>
            <p:nvPr/>
          </p:nvSpPr>
          <p:spPr>
            <a:xfrm>
              <a:off x="395280" y="981000"/>
              <a:ext cx="8281800" cy="46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1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接头前膜释放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ch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神经冲动（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）到达轴突末梢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该处膜中电压门控性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通道开放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内流        触发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囊泡向前膜靠近、融合、破裂     以出胞方式使囊泡中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释放入接头间隙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量子式释放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57480" y="5224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2800" y="3665520"/>
              <a:ext cx="718920" cy="144720"/>
            </a:xfrm>
            <a:custGeom>
              <a:avLst/>
              <a:gdLst>
                <a:gd name="textAreaLeft" fmla="*/ 89640 w 718920"/>
                <a:gd name="textAreaRight" fmla="*/ 629280 w 7189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85880" y="4427640"/>
              <a:ext cx="914400" cy="152280"/>
            </a:xfrm>
            <a:custGeom>
              <a:avLst/>
              <a:gdLst>
                <a:gd name="textAreaLeft" fmla="*/ 114120 w 914400"/>
                <a:gd name="textAreaRight" fmla="*/ 800280 w 91440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02320" y="2911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95280" y="9079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接头处的兴奋传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26772" r="0" b="13402"/>
          <a:stretch/>
        </p:blipFill>
        <p:spPr>
          <a:xfrm>
            <a:off x="324000" y="2060640"/>
            <a:ext cx="84978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39640" y="1341360"/>
            <a:ext cx="7777080" cy="4208760"/>
            <a:chOff x="539640" y="1341360"/>
            <a:chExt cx="7777080" cy="4208760"/>
          </a:xfrm>
        </p:grpSpPr>
        <p:sp>
          <p:nvSpPr>
            <p:cNvPr id="183" name=""/>
            <p:cNvSpPr/>
            <p:nvPr/>
          </p:nvSpPr>
          <p:spPr>
            <a:xfrm>
              <a:off x="539640" y="1341360"/>
              <a:ext cx="777708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复合收缩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compound contraction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当骨骼肌受到频率较高的连续刺激时，出现收缩过程的总和。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完全强直收缩               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完全强直收缩（心肌除外）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8000" y="4222800"/>
              <a:ext cx="217440" cy="107928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76320">
              <a:solidFill>
                <a:srgbClr val="66ffff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88000" y="53737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收缩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06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5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6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7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8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13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9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0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1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2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20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3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4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5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6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003640" y="4653000"/>
            <a:ext cx="288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  <a:ea typeface="华文新魏"/>
              </a:rPr>
              <a:t>完全强直收缩曲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grpSp>
          <p:nvGrpSpPr>
            <p:cNvPr id="228" name=""/>
            <p:cNvGrpSpPr/>
            <p:nvPr/>
          </p:nvGrpSpPr>
          <p:grpSpPr>
            <a:xfrm>
              <a:off x="108000" y="907920"/>
              <a:ext cx="8807400" cy="5412960"/>
              <a:chOff x="108000" y="907920"/>
              <a:chExt cx="8807400" cy="5412960"/>
            </a:xfrm>
          </p:grpSpPr>
          <p:sp>
            <p:nvSpPr>
              <p:cNvPr id="229" name=""/>
              <p:cNvSpPr/>
              <p:nvPr/>
            </p:nvSpPr>
            <p:spPr>
              <a:xfrm>
                <a:off x="4788000" y="537372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收缩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23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43640" y="3357360"/>
                <a:ext cx="4238640" cy="155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72000" y="907920"/>
                <a:ext cx="4343400" cy="23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79280" y="981000"/>
                <a:ext cx="4105440" cy="210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08000" y="3500280"/>
                <a:ext cx="4392720" cy="159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395280" y="530064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舒张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5004000" y="4653000"/>
              <a:ext cx="288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Arial"/>
                  <a:ea typeface="华文新魏"/>
                </a:rPr>
                <a:t>完全强直收缩曲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42920" y="4581360"/>
            <a:ext cx="7777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强直收缩张力远大于单收缩的张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原因：胞质内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浓度持续升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-1176480" y="275904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773360"/>
            <a:ext cx="86407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前负荷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preload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负荷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前所承受的负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初长度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前负荷决定肌肉在收缩前的长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观察不同前负荷或初长度时对肌肉收缩产生张力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05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四、影响骨骼肌收缩效能的因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714960" y="836640"/>
            <a:ext cx="7131960" cy="4829400"/>
            <a:chOff x="714960" y="836640"/>
            <a:chExt cx="7131960" cy="4829400"/>
          </a:xfrm>
        </p:grpSpPr>
        <p:grpSp>
          <p:nvGrpSpPr>
            <p:cNvPr id="242" name=""/>
            <p:cNvGrpSpPr/>
            <p:nvPr/>
          </p:nvGrpSpPr>
          <p:grpSpPr>
            <a:xfrm>
              <a:off x="714960" y="836640"/>
              <a:ext cx="7131960" cy="4829400"/>
              <a:chOff x="714960" y="836640"/>
              <a:chExt cx="7131960" cy="4829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230560" y="836640"/>
                <a:ext cx="0" cy="38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86200" y="5084640"/>
                <a:ext cx="33130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初长度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μm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4960" y="1052640"/>
                <a:ext cx="1155240" cy="20876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张力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Kg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307960" y="1608120"/>
                <a:ext cx="3384360" cy="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1455840"/>
                <a:ext cx="0" cy="324000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22720" y="846000"/>
                <a:ext cx="25192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适初长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0920" y="1555920"/>
                <a:ext cx="201600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大张力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3527640" y="1557360"/>
                <a:ext cx="1904760" cy="3098880"/>
              </a:xfrm>
              <a:custGeom>
                <a:avLst/>
                <a:gdLst/>
                <a:ahLst/>
                <a:rect l="l" t="t" r="r" b="b"/>
                <a:pathLst>
                  <a:path w="1200" h="1952">
                    <a:moveTo>
                      <a:pt x="0" y="1136"/>
                    </a:moveTo>
                    <a:cubicBezTo>
                      <a:pt x="88" y="820"/>
                      <a:pt x="176" y="504"/>
                      <a:pt x="240" y="320"/>
                    </a:cubicBezTo>
                    <a:cubicBezTo>
                      <a:pt x="304" y="136"/>
                      <a:pt x="320" y="32"/>
                      <a:pt x="384" y="32"/>
                    </a:cubicBezTo>
                    <a:cubicBezTo>
                      <a:pt x="448" y="32"/>
                      <a:pt x="488" y="0"/>
                      <a:pt x="624" y="320"/>
                    </a:cubicBezTo>
                    <a:cubicBezTo>
                      <a:pt x="760" y="640"/>
                      <a:pt x="980" y="1296"/>
                      <a:pt x="1200" y="1952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268720" y="4653000"/>
              <a:ext cx="460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24000" y="5803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黑体"/>
              </a:rPr>
              <a:t>肌肉在最适初长度下收缩，产生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95280" y="1125360"/>
            <a:ext cx="835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肌肉处于最适前负荷或最适初长度进行收缩时，产生的张力最大，其原因：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此时肌节的长度为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0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2μm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，粗肌丝的横桥与细肌丝作用点结合数量最多，做功效率最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20488" r="0" b="16530"/>
          <a:stretch/>
        </p:blipFill>
        <p:spPr>
          <a:xfrm>
            <a:off x="1619280" y="3573360"/>
            <a:ext cx="60958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1640" y="155736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前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2421000"/>
            <a:ext cx="79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一定范围内，前负荷与肌张力呈正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最适前负荷（最适初长度）时，肌肉收缩产生的肌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超过最适前负荷后，前负荷与肌张力呈反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9640" y="1700280"/>
            <a:ext cx="806472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后负荷（张力－速度曲线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负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afterload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在收缩过程中所承受的负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后负荷下，张力增加在前，长度缩短在后，缩短后张力不再增加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0"/>
          <a:ext cx="914400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468360" y="4869000"/>
            <a:ext cx="8066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缩短速度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横桥周期的长短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收缩张力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每瞬间与肌动蛋白结合的横桥数目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8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495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97400" y="5465880"/>
            <a:ext cx="59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膜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通道开放，膜外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向膜内流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4360" y="549360"/>
            <a:ext cx="755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" y="98100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后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916280"/>
            <a:ext cx="88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时，肌肉收缩产生的张力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缩短速度达最大缩短速度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张收缩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越大，收缩张力越大，缩短出现延迟，缩短速度减小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后负荷增大到使肌肉不能缩短时，缩短速度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肌肉产生的的张力达最大收缩张力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484280"/>
            <a:ext cx="835164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能力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contractility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概念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与前、后负荷无关的影响肌肉收缩效能的肌肉内在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能力提高时，表现为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上移、张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速度曲线右上方移位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11280" y="1773360"/>
            <a:ext cx="806436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单元重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收缩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兴奋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收缩耦联的基本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影响骨骼肌收缩效能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思考题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谓兴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收缩耦联？试述其基本过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9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5181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5661000"/>
            <a:ext cx="810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接头前膜内囊泡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量子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68360" y="722160"/>
            <a:ext cx="8496000" cy="6045840"/>
            <a:chOff x="468360" y="722160"/>
            <a:chExt cx="8496000" cy="6045840"/>
          </a:xfrm>
        </p:grpSpPr>
        <p:sp>
          <p:nvSpPr>
            <p:cNvPr id="123" name=""/>
            <p:cNvSpPr/>
            <p:nvPr/>
          </p:nvSpPr>
          <p:spPr>
            <a:xfrm>
              <a:off x="468360" y="722160"/>
              <a:ext cx="8496000" cy="60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2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终板膜产生终板电位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endplate potential,EPP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终板膜上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</a:t>
              </a:r>
              <a:r>
                <a:rPr b="1" lang="en-US" sz="3200" spc="-1" strike="noStrike" baseline="-25000">
                  <a:solidFill>
                    <a:srgbClr val="009900"/>
                  </a:solidFill>
                  <a:latin typeface="黑体"/>
                  <a:ea typeface="黑体"/>
                </a:rPr>
                <a:t>2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-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型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受体结合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受体在同一分子上的离子通道打开  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a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的内流（和少量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K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外流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膜处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RP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减小（去极化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局部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4080" y="317016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84080" y="576252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4080" y="4826160"/>
              <a:ext cx="147960" cy="288720"/>
            </a:xfrm>
            <a:prstGeom prst="downArrow">
              <a:avLst>
                <a:gd name="adj1" fmla="val 50000"/>
                <a:gd name="adj2" fmla="val 48783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84080" y="403380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20" descr=""/>
          <p:cNvPicPr/>
          <p:nvPr/>
        </p:nvPicPr>
        <p:blipFill>
          <a:blip r:embed="rId1"/>
          <a:stretch/>
        </p:blipFill>
        <p:spPr>
          <a:xfrm>
            <a:off x="385920" y="476280"/>
            <a:ext cx="8154720" cy="5013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0920" y="5734080"/>
            <a:ext cx="871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与终板膜上的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N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受体结合，通道开放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57200" y="1295280"/>
            <a:ext cx="8064360" cy="3875760"/>
            <a:chOff x="457200" y="1295280"/>
            <a:chExt cx="8064360" cy="3875760"/>
          </a:xfrm>
        </p:grpSpPr>
        <p:sp>
          <p:nvSpPr>
            <p:cNvPr id="131" name=""/>
            <p:cNvSpPr/>
            <p:nvPr/>
          </p:nvSpPr>
          <p:spPr>
            <a:xfrm>
              <a:off x="1128600" y="1952640"/>
              <a:ext cx="678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1295280"/>
              <a:ext cx="8064360" cy="38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3)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肌细胞</a:t>
              </a: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P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的产生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     电紧张扩布      邻近肌细胞膜去极化达阈电位      该处膜中电压门控式通道开放   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514600" y="2895480"/>
            <a:ext cx="4444920" cy="1866960"/>
            <a:chOff x="2514600" y="2895480"/>
            <a:chExt cx="4444920" cy="1866960"/>
          </a:xfrm>
        </p:grpSpPr>
        <p:sp>
          <p:nvSpPr>
            <p:cNvPr id="134" name=""/>
            <p:cNvSpPr/>
            <p:nvPr/>
          </p:nvSpPr>
          <p:spPr>
            <a:xfrm>
              <a:off x="6197760" y="2895480"/>
              <a:ext cx="7617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14600" y="29336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47624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38480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42920" y="5589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兴奋传递过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电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电过程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64000" y="214200"/>
            <a:ext cx="4680000" cy="5113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8974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37:09Z</dcterms:modified>
  <cp:revision>1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